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move the slide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2F47-9A6A-478B-B479-3EB280A26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2635-38E6-49FE-BF18-26A22B659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DE4F-B4B2-4BF8-972E-9B8662472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BAD-DC36-4DE5-B771-E7C8AAAE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74F-F6BE-469D-B030-8C82AD17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94F-D2C7-4F26-8642-1001C385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AE4-660C-4EBD-B40C-1663D49E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3D38-CEEF-4422-8376-207B8250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C7C5-7D21-400A-815B-C5C1F0FA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2B25-9E0A-441A-AF7C-91237327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462A-3A4A-419E-AA5D-393A0E6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CC31-1FB2-4372-BE9F-019FFCDB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CEE6-CB83-4C95-9B5A-EA243BAF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19B1-3B86-437C-8386-5E240737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6DE-6B29-4FB3-A2A9-D216E014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5A9E-E538-4682-9FBF-D3FF111A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5602-4C8F-45B4-8427-DC252F9B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602A-A3E2-4D25-B509-EE03458F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E523-652D-45AD-BEC0-1C8D948D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A00E-C32B-458C-80E9-2AB1D4C4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BC6EB-D4FD-47EA-A281-24009E4A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36DF-1B37-4AC1-B5D8-124CFD1A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F44E7-6AF3-4BA4-B485-1C15DE5C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BCE8-2780-4541-9A60-677FC7E5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B038-5DFB-4389-B49F-2E6799A1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57A-C712-42CF-8C0B-9267E69B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D4972-3D3E-40B3-B6F6-11A24FCD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378F-C7D7-4CD6-9242-CE118F7B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ED122-7400-4859-B8B7-0599E95D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40FC-3FD2-4A9A-ABF5-04135D2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4A1C-B41B-4204-A934-EB389FB2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105E-0E78-4812-939C-DEA7916F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D9CF5-8934-4199-A3BA-9C457F74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5772-187D-49EB-8777-991CF57F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44C92-5F44-46E9-A5E2-8360C3CC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B5FB-5DE1-41DF-B3FB-F8AD672E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0D0-99A8-446E-B699-BA436A6E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6553-4056-4358-A609-22E6D8A4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7FC2-40C1-43FF-AD26-5B952C27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2F566-A663-45E4-9256-23BD3DAC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19FC-E8F2-47C0-B19B-D31BC8DC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96B0B-50ED-4D2F-9661-BEF63921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6950-26BE-478D-8A0A-02F0B6FE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F1A40-05D9-42A1-9334-EED7616D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8356-6CF8-432B-B32F-5F4F9D51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5F485-690A-4C2C-8AF2-981BE927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4D4D2-9CDF-4145-8E13-6F9134B4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DE3-81ED-4086-94F2-23D581A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3C667-6FE2-4103-82F6-AF4EE728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9603C-D753-4B77-8AE1-997A9487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A412-6633-4F39-BD15-DF01C8EE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6F702-2364-4C7C-B08E-1492084D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AC2F1-8950-4444-BA5C-79A34CD2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7F37D-FD1E-4C29-9355-C2AF257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5839-C733-44DE-98B9-55C3E7D1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BA8B-C7B5-4446-8198-942CE076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0D4B7-5CAF-402F-A608-F9E7A581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D52A-FE9D-4CCA-ABD8-1A164870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565-5306-4AC8-9D0B-8707BDFE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99934-3F5E-450F-AC29-7075CB6B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FCB98-B8EC-45EE-ABBB-1B2A700A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5FF06-5C98-4D90-8517-974CFA68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5D330-DAC7-41C2-8A1B-99EA6A53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D49CF-8078-4B33-A8F7-BAADE59D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5457C-35FB-4C46-AE76-74926C18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6BAD9-C971-47EC-9BBB-0A761081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6CE5E-3723-4F6C-8EBA-B6129CEF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305DE-7692-4C01-AA97-CB20A9C5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7E8FF-DE4D-4826-B952-79772D40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BC2-2209-466A-97F0-1D1A3E2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7A502-FA89-4FC9-AA05-ED5FE9FB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1D10-601A-475A-A58F-27E033DE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9BE86-1052-4F6C-BAB6-463ECECA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3FB27-298F-4D5D-B59C-C0B70E2E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D8566-24C9-4B12-8ECD-BC00066E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1CB08-8A5B-47F6-A55C-7C3BF8E2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E32EE-8427-4613-A9A7-A0475156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BC4E3-1EC6-4B12-A853-AB40F245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3709B-6126-4E79-A033-C4C6626B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11EA4-E2F7-4458-B38F-8F32A142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A4D-025B-4A24-A779-E509D64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D7D56-F9DD-4E05-AE00-B7B3B257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19694-BF09-4DA5-8920-A3DB8AC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B29A5-2E4C-44F7-B3CC-32FFD00E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2A553-20C4-4AFE-A9E3-33EFFD20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6484A-85C4-4663-A005-C9A72807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CA2-BB94-43AF-A80A-C82F8D55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95520"/>
            <a:ext cx="101599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159920" cy="159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5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6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33640" y="7195680"/>
            <a:ext cx="6120000" cy="30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E594-B5D4-4997-91D1-1A70AC7D4EFE}" type="slidenum">
              <a:rPr b="0" lang="en-US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159920" cy="570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97360"/>
            <a:ext cx="101599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5" marL="1584360" indent="-20160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6" marL="1584360" indent="-20160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33640" y="7195680"/>
            <a:ext cx="6120000" cy="30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A928-0F20-4C0E-B17D-FCB7630C3A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159920" cy="289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92600"/>
            <a:ext cx="101599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5" marL="1584360" indent="-20160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6" marL="1584360" indent="-20160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33640" y="7195680"/>
            <a:ext cx="6120000" cy="30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AF02-DC49-4FEB-85ED-E3A9BBB6E4B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5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6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33640" y="7195680"/>
            <a:ext cx="6120000" cy="30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3DE2-2C77-4D02-95F3-FCAFA6A3413C}" type="slidenum">
              <a:rPr b="0" lang="en-US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95520"/>
            <a:ext cx="101599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159920" cy="159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73400" y="0"/>
            <a:ext cx="5076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73400" y="0"/>
            <a:ext cx="5076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5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6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33640" y="7195680"/>
            <a:ext cx="6120000" cy="30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CF3A-35F5-4715-B83B-E0820D01FEC8}" type="slidenum">
              <a:rPr b="0" lang="en-US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95520"/>
            <a:ext cx="101599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159920" cy="159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73400" y="0"/>
            <a:ext cx="50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73400" y="0"/>
            <a:ext cx="50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5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6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2520" y="1299960"/>
            <a:ext cx="2805120" cy="22356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73200" y="1299960"/>
            <a:ext cx="5770440" cy="22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266400" y="1299960"/>
            <a:ext cx="814320" cy="223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1953-4DED-4523-9DD3-2CC1C4B36651}" type="slidenum">
              <a:rPr b="0" lang="en-US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332840" y="0"/>
            <a:ext cx="50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86480" y="0"/>
            <a:ext cx="2794320" cy="762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5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6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33640" y="7086600"/>
            <a:ext cx="4262400" cy="40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73DB-22CC-4D78-993D-F67EECA2F3DD}" type="slidenum">
              <a:rPr b="0" lang="en-US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XYRkp2HZto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YdxCx7GilbQ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1640" y="361800"/>
            <a:ext cx="929664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422360" y="2057400"/>
            <a:ext cx="7315200" cy="1371600"/>
          </a:xfrm>
          <a:prstGeom prst="rect">
            <a:avLst/>
          </a:prstGeom>
          <a:solidFill>
            <a:srgbClr val="073763"/>
          </a:solidFill>
          <a:ln w="127080">
            <a:solidFill>
              <a:srgbClr val="cafb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2413080" y="4343400"/>
            <a:ext cx="5029200" cy="914400"/>
          </a:xfrm>
          <a:prstGeom prst="rect">
            <a:avLst/>
          </a:prstGeom>
          <a:solidFill>
            <a:srgbClr val="073763"/>
          </a:solidFill>
          <a:ln w="63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346040" y="2209680"/>
            <a:ext cx="759312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8e3fb"/>
                </a:solidFill>
                <a:uFillTx/>
                <a:latin typeface="Century Gothic"/>
              </a:rPr>
              <a:t>What Year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336760" y="4495680"/>
            <a:ext cx="520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e3fb"/>
                </a:solidFill>
                <a:latin typeface="Century Gothic"/>
              </a:rPr>
              <a:t>By:  Nicole Oldh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6"/>
          <p:cNvSpPr/>
          <p:nvPr/>
        </p:nvSpPr>
        <p:spPr>
          <a:xfrm>
            <a:off x="1346040" y="5791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3"/>
              </a:rPr>
              <a:t>http://www.youtube.com/watch?v=YdxCx7Gil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372960" y="304920"/>
            <a:ext cx="9496440" cy="70102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5"/>
          <p:cNvSpPr/>
          <p:nvPr/>
        </p:nvSpPr>
        <p:spPr>
          <a:xfrm>
            <a:off x="5308560" y="2743200"/>
            <a:ext cx="4038480" cy="43876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812880" y="609480"/>
            <a:ext cx="4160880" cy="464832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1035000" y="838080"/>
            <a:ext cx="3740040" cy="41911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"/>
          <p:cNvPicPr/>
          <p:nvPr/>
        </p:nvPicPr>
        <p:blipFill>
          <a:blip r:embed="rId3"/>
          <a:stretch/>
        </p:blipFill>
        <p:spPr>
          <a:xfrm>
            <a:off x="5613480" y="29718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9"/>
          <p:cNvSpPr/>
          <p:nvPr/>
        </p:nvSpPr>
        <p:spPr>
          <a:xfrm>
            <a:off x="5156280" y="228600"/>
            <a:ext cx="4419360" cy="22860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Babe Ruth becomes the first baseball player to hit 500 home runs in his career with a home run at League Park in Cleveland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851040" y="5562720"/>
            <a:ext cx="4211640" cy="132696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Guy Lombardo plays Auld Lang Syne for the first tim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630600" y="1530360"/>
            <a:ext cx="3005280" cy="341640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"/>
          <p:cNvPicPr/>
          <p:nvPr/>
        </p:nvPicPr>
        <p:blipFill>
          <a:blip r:embed="rId2"/>
          <a:stretch/>
        </p:blipFill>
        <p:spPr>
          <a:xfrm>
            <a:off x="3944880" y="1828800"/>
            <a:ext cx="2457360" cy="28605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9"/>
          <p:cNvSpPr/>
          <p:nvPr/>
        </p:nvSpPr>
        <p:spPr>
          <a:xfrm>
            <a:off x="6813720" y="1419120"/>
            <a:ext cx="2863800" cy="38800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10" descr=""/>
          <p:cNvPicPr/>
          <p:nvPr/>
        </p:nvPicPr>
        <p:blipFill>
          <a:blip r:embed="rId3"/>
          <a:stretch/>
        </p:blipFill>
        <p:spPr>
          <a:xfrm>
            <a:off x="7112160" y="1727280"/>
            <a:ext cx="2284200" cy="33066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11"/>
          <p:cNvSpPr/>
          <p:nvPr/>
        </p:nvSpPr>
        <p:spPr>
          <a:xfrm>
            <a:off x="412920" y="1327320"/>
            <a:ext cx="3066840" cy="38224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12" descr=""/>
          <p:cNvPicPr/>
          <p:nvPr/>
        </p:nvPicPr>
        <p:blipFill>
          <a:blip r:embed="rId4"/>
          <a:stretch/>
        </p:blipFill>
        <p:spPr>
          <a:xfrm>
            <a:off x="711360" y="1625760"/>
            <a:ext cx="2501640" cy="32511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3"/>
          <p:cNvSpPr/>
          <p:nvPr/>
        </p:nvSpPr>
        <p:spPr>
          <a:xfrm>
            <a:off x="6804000" y="5727600"/>
            <a:ext cx="2830680" cy="105408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urier New"/>
              </a:rPr>
              <a:t>Audrey Hepb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3695760" y="5423040"/>
            <a:ext cx="2735280" cy="120636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Courier New"/>
              </a:rPr>
              <a:t>Anne Frank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442800" y="5334120"/>
            <a:ext cx="2890800" cy="152388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urier New"/>
              </a:rPr>
              <a:t>Jacqueline Kennedy Onas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1727280" y="304920"/>
            <a:ext cx="7057800" cy="89208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Born  This  Y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36160" cy="7658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>
            <a:off x="1530360" y="195120"/>
            <a:ext cx="7058160" cy="89244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What  Year  Is 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3327480" y="1752480"/>
            <a:ext cx="3504960" cy="892440"/>
          </a:xfrm>
          <a:prstGeom prst="rect">
            <a:avLst/>
          </a:prstGeom>
          <a:solidFill>
            <a:srgbClr val="073763"/>
          </a:solidFill>
          <a:ln w="63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8e3fb"/>
                </a:solidFill>
                <a:latin typeface="Century Gothic"/>
              </a:rPr>
              <a:t>A.   19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327480" y="3048120"/>
            <a:ext cx="3504960" cy="892080"/>
          </a:xfrm>
          <a:prstGeom prst="rect">
            <a:avLst/>
          </a:prstGeom>
          <a:solidFill>
            <a:srgbClr val="073763"/>
          </a:solidFill>
          <a:ln w="63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8e3fb"/>
                </a:solidFill>
                <a:latin typeface="Century Gothic"/>
              </a:rPr>
              <a:t>B.   19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3327480" y="4343400"/>
            <a:ext cx="3504960" cy="892080"/>
          </a:xfrm>
          <a:prstGeom prst="rect">
            <a:avLst/>
          </a:prstGeom>
          <a:solidFill>
            <a:srgbClr val="073763"/>
          </a:solidFill>
          <a:ln w="63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8e3fb"/>
                </a:solidFill>
                <a:latin typeface="Century Gothic"/>
              </a:rPr>
              <a:t>C.   192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3327480" y="5638680"/>
            <a:ext cx="3504960" cy="892440"/>
          </a:xfrm>
          <a:prstGeom prst="rect">
            <a:avLst/>
          </a:prstGeom>
          <a:solidFill>
            <a:srgbClr val="073763"/>
          </a:solidFill>
          <a:ln w="63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8e3fb"/>
                </a:solidFill>
                <a:latin typeface="Century Gothic"/>
              </a:rPr>
              <a:t>D.   19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0"/>
                            </p:stCondLst>
                            <p:childTnLst>
                              <p:par>
                                <p:cTn id="6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000"/>
                            </p:stCondLst>
                            <p:childTnLst>
                              <p:par>
                                <p:cTn id="6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9220320" cy="68644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5"/>
          <p:cNvSpPr/>
          <p:nvPr/>
        </p:nvSpPr>
        <p:spPr>
          <a:xfrm>
            <a:off x="4927680" y="3657600"/>
            <a:ext cx="3962160" cy="350532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888840" y="1371600"/>
            <a:ext cx="3581640" cy="4038480"/>
          </a:xfrm>
          <a:prstGeom prst="rect">
            <a:avLst/>
          </a:prstGeom>
          <a:solidFill>
            <a:srgbClr val="073763"/>
          </a:solidFill>
          <a:ln w="936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7" descr=""/>
          <p:cNvPicPr/>
          <p:nvPr/>
        </p:nvPicPr>
        <p:blipFill>
          <a:blip r:embed="rId2"/>
          <a:stretch/>
        </p:blipFill>
        <p:spPr>
          <a:xfrm>
            <a:off x="1117440" y="3429000"/>
            <a:ext cx="3187800" cy="1752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"/>
          <p:cNvPicPr/>
          <p:nvPr/>
        </p:nvPicPr>
        <p:blipFill>
          <a:blip r:embed="rId3"/>
          <a:stretch/>
        </p:blipFill>
        <p:spPr>
          <a:xfrm>
            <a:off x="1117440" y="1600200"/>
            <a:ext cx="3156120" cy="1755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4"/>
          <a:stretch/>
        </p:blipFill>
        <p:spPr>
          <a:xfrm>
            <a:off x="5232240" y="3886200"/>
            <a:ext cx="3353040" cy="30510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2"/>
          <p:cNvSpPr/>
          <p:nvPr/>
        </p:nvSpPr>
        <p:spPr>
          <a:xfrm>
            <a:off x="4699080" y="1447920"/>
            <a:ext cx="4647960" cy="20574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  <a:ea typeface="Courier New"/>
              </a:rPr>
              <a:t>The Seeing Eye is established with the mission to train dogs to assist the blind in Nashville Tennesse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736560" y="5562720"/>
            <a:ext cx="4008600" cy="144756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  <a:ea typeface="Courier New"/>
              </a:rPr>
              <a:t>Turkey and Persia sign a friendship treaty</a:t>
            </a:r>
            <a:r>
              <a:rPr b="1" lang="en-US" sz="2800" spc="-1" strike="noStrike">
                <a:solidFill>
                  <a:srgbClr val="003366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574640" y="228600"/>
            <a:ext cx="7058160" cy="99072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8e3fb"/>
                </a:solidFill>
                <a:uFillTx/>
                <a:latin typeface="Century Gothic"/>
              </a:rPr>
              <a:t>World  New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584280" y="304920"/>
            <a:ext cx="9090000" cy="70102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5"/>
          <p:cNvSpPr/>
          <p:nvPr/>
        </p:nvSpPr>
        <p:spPr>
          <a:xfrm>
            <a:off x="5308560" y="2209680"/>
            <a:ext cx="4495680" cy="480060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03040" y="380880"/>
            <a:ext cx="4876920" cy="556272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5537160" y="243828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3"/>
          <a:stretch/>
        </p:blipFill>
        <p:spPr>
          <a:xfrm>
            <a:off x="431640" y="762120"/>
            <a:ext cx="4516560" cy="47242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9"/>
          <p:cNvSpPr/>
          <p:nvPr/>
        </p:nvSpPr>
        <p:spPr>
          <a:xfrm>
            <a:off x="5156280" y="380880"/>
            <a:ext cx="4778280" cy="16002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urier New"/>
                <a:ea typeface="Courier New"/>
              </a:rPr>
              <a:t>Grand Teton National Park i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507960" y="6172200"/>
            <a:ext cx="4310280" cy="99072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  <a:ea typeface="Courier New"/>
              </a:rPr>
              <a:t>The population reaches 12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374760" y="228600"/>
            <a:ext cx="9543960" cy="71629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380880" y="1428840"/>
            <a:ext cx="4318200" cy="34480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5003640" y="1419120"/>
            <a:ext cx="4775400" cy="376236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9" descr=""/>
          <p:cNvPicPr/>
          <p:nvPr/>
        </p:nvPicPr>
        <p:blipFill>
          <a:blip r:embed="rId2"/>
          <a:stretch/>
        </p:blipFill>
        <p:spPr>
          <a:xfrm>
            <a:off x="660240" y="1676520"/>
            <a:ext cx="3802320" cy="2895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3"/>
          <a:stretch/>
        </p:blipFill>
        <p:spPr>
          <a:xfrm>
            <a:off x="5294160" y="1727280"/>
            <a:ext cx="4213440" cy="31496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1"/>
          <p:cNvSpPr/>
          <p:nvPr/>
        </p:nvSpPr>
        <p:spPr>
          <a:xfrm>
            <a:off x="5079960" y="5410080"/>
            <a:ext cx="4572000" cy="175284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  <a:ea typeface="Courier New"/>
              </a:rPr>
              <a:t>US Admiral Richard Byrd becomes the first person to fly over the South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584280" y="5105520"/>
            <a:ext cx="3886200" cy="193968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  <a:ea typeface="Courier New"/>
              </a:rPr>
              <a:t>U.S colonial Charles Lindbergh leaves on a 3,500 mile flight from Detroit to Cope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530360" y="195120"/>
            <a:ext cx="7058160" cy="89244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Flight  Innov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431640" y="380880"/>
            <a:ext cx="9161640" cy="67820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541440" y="3429000"/>
            <a:ext cx="4503600" cy="35956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8" descr=""/>
          <p:cNvPicPr/>
          <p:nvPr/>
        </p:nvPicPr>
        <p:blipFill>
          <a:blip r:embed="rId2"/>
          <a:stretch/>
        </p:blipFill>
        <p:spPr>
          <a:xfrm>
            <a:off x="892080" y="3809880"/>
            <a:ext cx="3872160" cy="29433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9"/>
          <p:cNvSpPr/>
          <p:nvPr/>
        </p:nvSpPr>
        <p:spPr>
          <a:xfrm>
            <a:off x="5460840" y="1371600"/>
            <a:ext cx="3848400" cy="35812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10" descr=""/>
          <p:cNvPicPr/>
          <p:nvPr/>
        </p:nvPicPr>
        <p:blipFill>
          <a:blip r:embed="rId3"/>
          <a:stretch/>
        </p:blipFill>
        <p:spPr>
          <a:xfrm>
            <a:off x="5765760" y="1600200"/>
            <a:ext cx="3301920" cy="31654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1"/>
          <p:cNvSpPr/>
          <p:nvPr/>
        </p:nvSpPr>
        <p:spPr>
          <a:xfrm>
            <a:off x="733320" y="1359000"/>
            <a:ext cx="4138560" cy="18414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urier New"/>
              </a:rPr>
              <a:t>The first car radio is made by Motor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5524560" y="5105520"/>
            <a:ext cx="3743280" cy="22860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Sam Foster begins selling sunglasses from his counter in Woolworths on the boardwalk in At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1498680" y="228600"/>
            <a:ext cx="7057800" cy="89208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Technolo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-406440" y="477720"/>
            <a:ext cx="10972800" cy="71424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5"/>
          <p:cNvSpPr/>
          <p:nvPr/>
        </p:nvSpPr>
        <p:spPr>
          <a:xfrm>
            <a:off x="1346040" y="512640"/>
            <a:ext cx="3489480" cy="451656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6" descr=""/>
          <p:cNvPicPr/>
          <p:nvPr/>
        </p:nvPicPr>
        <p:blipFill>
          <a:blip r:embed="rId2"/>
          <a:stretch/>
        </p:blipFill>
        <p:spPr>
          <a:xfrm>
            <a:off x="1641600" y="744480"/>
            <a:ext cx="2981160" cy="39798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7"/>
          <p:cNvSpPr/>
          <p:nvPr/>
        </p:nvSpPr>
        <p:spPr>
          <a:xfrm>
            <a:off x="4984920" y="3352680"/>
            <a:ext cx="3752640" cy="353556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3"/>
          <a:stretch/>
        </p:blipFill>
        <p:spPr>
          <a:xfrm>
            <a:off x="5283360" y="3657600"/>
            <a:ext cx="3176280" cy="2917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9"/>
          <p:cNvSpPr/>
          <p:nvPr/>
        </p:nvSpPr>
        <p:spPr>
          <a:xfrm>
            <a:off x="1422360" y="5181480"/>
            <a:ext cx="3203640" cy="18288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The first public phone booth appears in Lon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5079960" y="762120"/>
            <a:ext cx="3621240" cy="236196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Andreas Stihl, a Swiss engineer begins manufacturing the first gasoline powered chain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9220320" cy="6905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7"/>
          <p:cNvSpPr/>
          <p:nvPr/>
        </p:nvSpPr>
        <p:spPr>
          <a:xfrm>
            <a:off x="920880" y="1419120"/>
            <a:ext cx="4349520" cy="376236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1193760" y="1676520"/>
            <a:ext cx="3778200" cy="32004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9"/>
          <p:cNvSpPr/>
          <p:nvPr/>
        </p:nvSpPr>
        <p:spPr>
          <a:xfrm>
            <a:off x="5460840" y="1295280"/>
            <a:ext cx="4419720" cy="411480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10" descr=""/>
          <p:cNvPicPr/>
          <p:nvPr/>
        </p:nvPicPr>
        <p:blipFill>
          <a:blip r:embed="rId3"/>
          <a:stretch/>
        </p:blipFill>
        <p:spPr>
          <a:xfrm>
            <a:off x="5842080" y="1600200"/>
            <a:ext cx="3733560" cy="35384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5689440" y="5562720"/>
            <a:ext cx="4000680" cy="18288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A total of over 200,000 die from the Influenza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054080" y="5410080"/>
            <a:ext cx="3857760" cy="143352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Sir Alexander Fleming discovers Penicilli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530360" y="195120"/>
            <a:ext cx="7058160" cy="89244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State  of 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431640" y="284040"/>
            <a:ext cx="9296640" cy="69930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1004760" y="1428840"/>
            <a:ext cx="3575160" cy="35398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2"/>
          <a:stretch/>
        </p:blipFill>
        <p:spPr>
          <a:xfrm>
            <a:off x="1422360" y="1727280"/>
            <a:ext cx="2743200" cy="29592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9"/>
          <p:cNvSpPr/>
          <p:nvPr/>
        </p:nvSpPr>
        <p:spPr>
          <a:xfrm>
            <a:off x="5433840" y="2851200"/>
            <a:ext cx="3235320" cy="381312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0" descr=""/>
          <p:cNvPicPr/>
          <p:nvPr/>
        </p:nvPicPr>
        <p:blipFill>
          <a:blip r:embed="rId3"/>
          <a:stretch/>
        </p:blipFill>
        <p:spPr>
          <a:xfrm>
            <a:off x="5791320" y="3251160"/>
            <a:ext cx="2590560" cy="31370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1"/>
          <p:cNvSpPr/>
          <p:nvPr/>
        </p:nvSpPr>
        <p:spPr>
          <a:xfrm>
            <a:off x="4775040" y="1447920"/>
            <a:ext cx="4335480" cy="129528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The Academy Awards, popularly known as the Oscars, are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733320" y="5118120"/>
            <a:ext cx="4124520" cy="156528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Popeye the Sailor Man first appeared in a newspaper comic s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1574640" y="228600"/>
            <a:ext cx="7058160" cy="89208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Pop  Cul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507960" y="304920"/>
            <a:ext cx="9067680" cy="69339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731880" y="380880"/>
            <a:ext cx="5160960" cy="502920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6" descr=""/>
          <p:cNvPicPr/>
          <p:nvPr/>
        </p:nvPicPr>
        <p:blipFill>
          <a:blip r:embed="rId2"/>
          <a:stretch/>
        </p:blipFill>
        <p:spPr>
          <a:xfrm>
            <a:off x="1117440" y="762120"/>
            <a:ext cx="4397400" cy="43434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7"/>
          <p:cNvSpPr/>
          <p:nvPr/>
        </p:nvSpPr>
        <p:spPr>
          <a:xfrm>
            <a:off x="6375240" y="457200"/>
            <a:ext cx="3318120" cy="50086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3"/>
          <a:stretch/>
        </p:blipFill>
        <p:spPr>
          <a:xfrm>
            <a:off x="6680160" y="685800"/>
            <a:ext cx="2798640" cy="45403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6031080" y="5791320"/>
            <a:ext cx="3832200" cy="15714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urier New"/>
              </a:rPr>
              <a:t>The soft drink 7-up is inv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954000" y="5562720"/>
            <a:ext cx="4656240" cy="176184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urier New"/>
              </a:rPr>
              <a:t>Museum of Modern Art opens in New Y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ames</cp:lastModifiedBy>
  <dcterms:modified xsi:type="dcterms:W3CDTF">2010-11-30T19:28:11Z</dcterms:modified>
  <cp:revision>36</cp:revision>
  <dc:subject/>
  <dc:title>PowerPoint Presentation</dc:title>
</cp:coreProperties>
</file>